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1CF8-5663-4382-A807-50994A41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6A28-3034-4AD3-B6D3-5EE2E74D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CB1A-9BAF-4989-8A92-4D9A8AEB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5CDC-4C3C-4ACA-B893-1D1CD5C8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7C10-95BD-4679-9868-1A71E512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15F8-8B61-4FE3-91C9-E302A3A0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10FE-C438-4B7E-9907-21CB4574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E878-AB46-4197-8F8C-16D8A730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57E-B90F-4465-BBCD-BD21B05F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2859-1843-44C4-9D47-8E203E6D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594B-2BE5-4CF6-BE05-4302B726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E4BA-4A3B-43C4-87A8-0F211E57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1E46-17D7-4331-8F6B-D0EF9B0DC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Simple Analysis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8487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0-30T15:34:13Z</dcterms:modified>
  <cp:revision>42</cp:revision>
  <dc:subject/>
  <dc:title>PowerPoint Presentation</dc:title>
</cp:coreProperties>
</file>